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D90-D4AD-4CAC-B697-9427F23C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480-1E0C-4612-A161-E83C918A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961B3-537D-4088-9C9A-AE835834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DFA43-0A0F-41E5-8314-167B225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E4770-24F5-48CB-A025-0A5A5D14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4BA87-65CF-429B-8F42-7ADFFAB2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44564-2045-49F0-B600-9A583CC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FE8D0-B3A9-4EF5-9FB9-F46D0FA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07BC4-B1AA-4CCF-A34B-1B42987D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0C6A0-4344-40AD-8348-9C5B157B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E9C2B-4A1D-4D2D-B154-B5B53BDF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599BF-C784-498A-B4FB-6D3FDF85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3A5-3653-4678-9E97-C2FF12FA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41E15-CAE7-47FD-AC89-B7CFF92F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6BBC0-5CA2-4149-8DC0-963C1878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D5B76-5DA2-460F-A4EE-D74C29BC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912DD-4F8E-4E8E-A864-4432171B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2E1DA-80F0-4B8C-9C0D-567EACC8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85D64-F13D-44B9-AC91-B198007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03834-328A-418E-871A-A77229E0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8CE6C-6BE0-4457-8832-7B5A6D9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372FB-D6B4-4E87-ABEF-ED4C3FAF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D5285-1FEA-47F0-9919-697558F9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29F-A0FE-454F-89E9-8E735CB5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145E3-6DA2-4D26-B2CC-4F4F7036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03205-0A5F-4ED4-B9ED-64B7B243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48934-FF85-4616-B34F-6EF5496E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EB09D-517B-427C-B7D8-0489366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2A2CD-3D89-4E1C-871E-7A805DF3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FC243-69B5-4FF3-B7B1-99ED7C00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51C62-ACDD-4ECC-8A31-5003C52D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40060-3451-4FAD-9554-21D5AD5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AEE6F-09AF-4899-967E-D7D54857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C0AC7-C8D9-4F08-8986-4D2A9D0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AD7A-AD8D-40E2-B2F5-8174EB40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2B422-B64A-4E92-81E4-D9BC4474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76566-0F64-49C1-894E-A16B560B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65D1B-6EC3-4564-903E-09067BC2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936E8-F30B-4F2F-ADE0-D31D2ACB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80481-A06C-40D8-9BE0-F0D8E061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AFDBE-FD9A-4283-AD35-FF5420E2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6151C-B43F-4A72-9F6F-78E0B965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EF81A-A27D-43C3-8C46-AA4EF7DC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47AA4-1A31-418E-A999-0FDF4555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C3286-2E66-44E5-8BF0-01588B6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B310-E8DA-4987-8C34-44B76D6F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6BE40-250E-48C2-990D-A06FCA0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8877B-C4B4-4EBF-85F7-117E4839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3ED55-DFB7-437D-B0EB-DF26D98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6BB7B-4645-442D-B6AE-D5170672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14DD6-C7C3-4443-9274-D4827C26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7363D-0D21-4798-B884-BEDEA5E6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92D64-2D7E-4BD7-A6FE-26CCF457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296B3-C4B0-41B5-A6EA-F68B84E4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C9970-4368-4509-9DCC-41FA70AE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0094F-7C59-4B31-B076-500A9A0C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8B52-73E0-42EF-8DE6-5F1C7B64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BE804-EBAD-40D1-836A-C8715EC6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20E69-5792-48D0-B7FE-031F3954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D81E5-B55D-46CF-9DAC-BE58382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19CFD-3940-4CD0-A6B7-B26792E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C6A03-FEF6-4CD6-BD51-795CDC28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EE671-D49F-4E4A-B4F3-7B4EB699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C5704-54D2-4AF1-9B5F-1CFBF652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E53D7-CC4B-4EAF-8903-13F63AEC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2600D-CA71-42B8-872F-D5F9541B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27200-BCD7-4B6A-B731-3979CD92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FC77-B7BF-454F-966A-7BC84076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DA4BC-7615-4D19-ACE3-278B82BF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8A54C-3941-4290-9089-72F8E3AC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AB5E0-C046-4C1E-AFEA-F2462EBB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4CBDA-717B-4491-AB61-5BFB0364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A30E8-EDB8-4745-9AEE-57C2BC5D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14DB2-4003-4F28-A41C-472C618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066B7-B3A8-452A-BAD5-CB38DFEC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D18C7-B8CB-412E-8225-0D720C1A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6460E-9960-4204-9B54-338D4609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D79D-D8AC-4666-90E3-688DBB85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E0FF-0A1E-4A83-BBE6-056A932E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44B-EEED-4032-9996-4EEC568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CE9-39AB-42EE-B857-1B72E346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847F-21CF-4F5E-A84A-D054ED7F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11E0-348A-4AB7-9BDD-6A3E6A9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0AF6-9C27-44BC-AE4D-C4A7926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7A00-0EC0-40D2-B4E2-67F524C4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4984-4DCA-4FEF-AAD0-36C3DE5C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5B9A-D5FB-4053-AD5D-34F3C650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D575-36D5-43A1-89A6-D000C636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38C9-6B23-494D-B755-D81828B8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AF1F-F3A0-40CC-BE73-CE481086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327C-B283-4057-99AA-B830157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3EA-E01C-49BC-BE84-2352728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F8FE-BE79-4766-913B-39DEB11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2D03-B832-45A0-A9A4-439637C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E972-FCE9-4495-AE3E-07C91F71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5D5D-FC53-429A-8B95-784F186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AB40-2E53-4D3F-A9F0-F20C3B02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65B1-358E-4786-AC24-C0FC6E72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99AB-1983-49DA-A421-83DB57AE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35B0-FB7B-4D7C-9D5F-C8ADE5CA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FC95-FAE9-4A74-AFFA-82D763C0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990FB-5273-4330-8532-2FD7A61D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C4D-73F0-4AAB-B01C-637FCA62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EB3F-4F05-4582-BCAF-8768A59F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2AA2A-F2AB-40AD-B753-4159B7EB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76B3A-45B2-4237-A46A-CEB6024B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F5B7-100F-4A73-AC45-454DD6B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95E4-7CB2-44CF-91C9-5AE86FC3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A665-2965-42B5-A078-7367F5B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FBDA-B0AF-494A-AF63-313B170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D588-B53E-442A-98A3-47E5E59F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7A6B7-A958-45A3-96E3-34382992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F98EB-6C8D-4693-B7BD-E52DE55B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1D8-B0A5-4330-A838-1124680E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58E8D-54AD-4F4F-A7C7-7F424895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18BD1-C1D2-4059-8517-EDD1577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323A-0237-4628-AB64-D30A9DEF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AAFA-22CC-4FA7-AE14-CE1BC451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6E06-D794-4D7C-9B04-D59D2850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82FB-F51A-4B54-89B9-CF7836D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8C7A-77F8-4C35-AA8C-BC69BBF9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E1070-0260-4A68-997A-FD1C6C0F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3186-4936-486B-99E7-043D15F9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58A5-5368-4F51-8E71-64D011E6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AD6-4427-4FDF-A20D-D06845FD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85934-C847-4EC0-BB82-AFB937AC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0FE2C-C845-4287-9F9F-64663C98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B312-C4F9-422E-93E1-F953B760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AD822-9C22-4A1F-A12C-8F4FFF69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BCE46-DE98-4C11-BECA-3970E61D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3A0A-6826-4F54-87BD-CECA01ED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A0DF5-25D8-4F02-A4C8-2CEE86D0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2B7A5-065F-4056-A48E-A57FE667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E548-EC28-4DC4-83BA-1EFEB5A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32CFC-9B99-4F7A-BBB4-36E4A12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F4F-8DB8-4D3D-B51F-CE0E955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AFC4-C845-4BA5-80DE-E02BD989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DADCC-4972-48CF-854F-D56A4A3A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6636-D231-479D-952D-0234B3F0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603D8-68CA-46B1-B51C-1B246139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A378-857D-4106-8C44-7C0B7666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A52E-DACE-45E2-9012-D334A40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81E86-C87D-4D65-AEAD-AEACC644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459EC-0175-4BC1-909C-0E5A9161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7A957-C27C-425C-A17B-3952565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278A-528B-490A-AA64-C9D5B2F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99D-2CA4-4714-BCF5-393914E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BC092-4949-4A95-97E6-C0246D59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82CAE-CC62-47B1-9056-3CA86BC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C42A-8BFB-417B-8A8A-62F470BD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191AE-42B1-42C8-B83E-F0EA1DA8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CB83-2BA3-402E-A5C6-223236E3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09B1-CF57-4486-B48D-8558F0A9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28578-00E1-455D-B998-9FE1043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3C64B-0C74-42B4-BE57-919C6B53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53270-8BA3-4394-86C0-B4DAA7C8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1F0F4-2927-48A0-BEFA-ED0F15D6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FB0-DEF1-411D-A85C-9DCEE677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D37D4-683B-4D3D-B65A-F8926DC9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4AB8F-1F8B-4795-A78E-EA3A69F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D2B83-BE28-4C83-98AA-6E395235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02040-0BC8-42BD-B3FC-D77E3A1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74B8D-7DDC-4990-B7EB-A965D757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373A9-9665-4084-A57D-326117F2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0941D-D3AE-44C4-A356-670FA386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F4A76-FB8B-409F-95F8-40012F26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0DAE7-1B1E-4124-853D-6B0CDE77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D6B77-2FED-405B-AA20-CF78431B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71CB-9C05-4EAF-9431-7653E05E8F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B450-848C-4639-891C-C7744E9F59FF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8307-876B-4685-96B2-1ECC68FC57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4917-FD11-4CB8-9255-EC20806307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AA93-49FE-490D-A40E-6EEF6E6638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7A27-BF08-4B6A-959B-1343646488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6A8-3D6F-4726-8BEE-DE7787A012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D634-2345-4829-8708-63E8ECFF52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6273-2A79-4717-91A4-89B525C54F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9B6-B526-445B-BAD0-FD843CE8EA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6AC4-EFB5-48A5-8345-3E9A6F0C79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195A-76EA-4584-BE25-B3A8BEF9B8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A807-334B-4D63-B93F-9C243B034E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D6D6-E5A3-4F04-B01C-A4FD3588E2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age.bbs.tom.com/pic/1/2147/2147990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bs.tom.com/pic/1/2147/2147986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Rectangle 2" descr=""/>
          <p:cNvPicPr/>
          <p:nvPr/>
        </p:nvPicPr>
        <p:blipFill>
          <a:blip r:embed="rId1"/>
          <a:stretch/>
        </p:blipFill>
        <p:spPr>
          <a:xfrm>
            <a:off x="749160" y="1090440"/>
            <a:ext cx="7785360" cy="22752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522440" y="2759040"/>
            <a:ext cx="6099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Goudy Old Style"/>
              </a:rPr>
              <a:t>第一课时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1"/>
          <p:cNvSpPr/>
          <p:nvPr/>
        </p:nvSpPr>
        <p:spPr>
          <a:xfrm>
            <a:off x="6732720" y="3284640"/>
            <a:ext cx="2087280" cy="1296720"/>
          </a:xfrm>
          <a:prstGeom prst="rect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627280" y="4005360"/>
            <a:ext cx="2808360" cy="1224000"/>
          </a:xfrm>
          <a:prstGeom prst="rect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21"/>
          <p:cNvSpPr/>
          <p:nvPr/>
        </p:nvSpPr>
        <p:spPr>
          <a:xfrm>
            <a:off x="2700360" y="2708280"/>
            <a:ext cx="2735280" cy="865080"/>
          </a:xfrm>
          <a:prstGeom prst="rect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20"/>
          <p:cNvSpPr/>
          <p:nvPr/>
        </p:nvSpPr>
        <p:spPr>
          <a:xfrm>
            <a:off x="5724360" y="1268280"/>
            <a:ext cx="2303640" cy="1368720"/>
          </a:xfrm>
          <a:prstGeom prst="rect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395280" y="1844640"/>
            <a:ext cx="1368360" cy="3313080"/>
          </a:xfrm>
          <a:prstGeom prst="rect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394920" y="1988640"/>
            <a:ext cx="29862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ff"/>
                </a:solidFill>
                <a:latin typeface="Goudy Old Style"/>
              </a:rPr>
              <a:t>生活</a:t>
            </a:r>
            <a:endParaRPr b="0" lang="en-US" sz="37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ff"/>
                </a:solidFill>
                <a:latin typeface="Goudy Old Style"/>
              </a:rPr>
              <a:t>中的</a:t>
            </a:r>
            <a:endParaRPr b="0" lang="en-US" sz="37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ff"/>
                </a:solidFill>
                <a:latin typeface="Goudy Old Style"/>
              </a:rPr>
              <a:t>轴对</a:t>
            </a:r>
            <a:endParaRPr b="0" lang="en-US" sz="37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ff"/>
                </a:solidFill>
                <a:latin typeface="Goudy Old Style"/>
              </a:rPr>
              <a:t> </a:t>
            </a:r>
            <a:r>
              <a:rPr b="1" lang="zh-CN" sz="3700" spc="-1" strike="noStrike">
                <a:solidFill>
                  <a:srgbClr val="3333ff"/>
                </a:solidFill>
                <a:latin typeface="Goudy Old Style"/>
              </a:rPr>
              <a:t>称</a:t>
            </a:r>
            <a:endParaRPr b="0" lang="en-US" sz="37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4788000" y="1844640"/>
            <a:ext cx="934920" cy="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2700360" y="1341360"/>
            <a:ext cx="2232000" cy="1008000"/>
          </a:xfrm>
          <a:prstGeom prst="rect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2771640" y="1484280"/>
            <a:ext cx="21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轴对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10"/>
          <p:cNvSpPr/>
          <p:nvPr/>
        </p:nvSpPr>
        <p:spPr>
          <a:xfrm>
            <a:off x="5796000" y="1268280"/>
            <a:ext cx="37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作图形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对称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3"/>
          <p:cNvSpPr/>
          <p:nvPr/>
        </p:nvSpPr>
        <p:spPr>
          <a:xfrm>
            <a:off x="1547640" y="3429000"/>
            <a:ext cx="935280" cy="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16"/>
          <p:cNvSpPr/>
          <p:nvPr/>
        </p:nvSpPr>
        <p:spPr>
          <a:xfrm>
            <a:off x="2340000" y="1989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2340000" y="1989000"/>
            <a:ext cx="0" cy="25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18"/>
          <p:cNvSpPr/>
          <p:nvPr/>
        </p:nvSpPr>
        <p:spPr>
          <a:xfrm>
            <a:off x="2340000" y="3141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2700360" y="2708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轴对称变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627280" y="393372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用坐标表示轴对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5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6"/>
          <p:cNvSpPr/>
          <p:nvPr/>
        </p:nvSpPr>
        <p:spPr>
          <a:xfrm>
            <a:off x="5435640" y="314172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27"/>
          <p:cNvSpPr/>
          <p:nvPr/>
        </p:nvSpPr>
        <p:spPr>
          <a:xfrm>
            <a:off x="6084720" y="3141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28"/>
          <p:cNvSpPr/>
          <p:nvPr/>
        </p:nvSpPr>
        <p:spPr>
          <a:xfrm>
            <a:off x="5435640" y="4581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29"/>
          <p:cNvSpPr/>
          <p:nvPr/>
        </p:nvSpPr>
        <p:spPr>
          <a:xfrm>
            <a:off x="5867280" y="3789360"/>
            <a:ext cx="935280" cy="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6659640" y="3284640"/>
            <a:ext cx="37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作对称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图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0" y="1268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ff"/>
                </a:solidFill>
                <a:latin typeface="Goudy Old Style"/>
              </a:rPr>
              <a:t>1.</a:t>
            </a:r>
            <a:r>
              <a:rPr b="0" lang="zh-CN" sz="4800" spc="-1" strike="noStrike">
                <a:solidFill>
                  <a:srgbClr val="ff66ff"/>
                </a:solidFill>
                <a:latin typeface="Goudy Old Style"/>
              </a:rPr>
              <a:t>轴对称图形：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Goudy Old Style"/>
              </a:rPr>
              <a:t>           </a:t>
            </a:r>
            <a:r>
              <a:rPr b="1" lang="zh-CN" sz="4000" spc="-1" strike="noStrike">
                <a:solidFill>
                  <a:srgbClr val="3333ff"/>
                </a:solidFill>
                <a:latin typeface="Goudy Old Style"/>
              </a:rPr>
              <a:t>如果一个图形沿一条直线折叠，直线两旁的部分能够呼吸重合，这个图形就是轴对称图形。这条直线就是她的对称轴。这个图形关于这条直线对称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ff"/>
                </a:solidFill>
                <a:latin typeface="Goudy Old Style"/>
              </a:rPr>
              <a:t>2.</a:t>
            </a:r>
            <a:r>
              <a:rPr b="0" lang="zh-CN" sz="4800" spc="-1" strike="noStrike">
                <a:solidFill>
                  <a:srgbClr val="ff66ff"/>
                </a:solidFill>
                <a:latin typeface="Goudy Old Style"/>
              </a:rPr>
              <a:t>轴对称</a:t>
            </a:r>
            <a:endParaRPr b="0" lang="en-US" sz="4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Goudy Old Style"/>
              </a:rPr>
              <a:t>          </a:t>
            </a:r>
            <a:r>
              <a:rPr b="0" lang="zh-CN" sz="4000" spc="-1" strike="noStrike">
                <a:solidFill>
                  <a:srgbClr val="3333ff"/>
                </a:solidFill>
                <a:latin typeface="Goudy Old Style"/>
              </a:rPr>
              <a:t>把一个图形沿一条直线折叠，如果它能够与另一个图形重合，那么这两个图形关于这条直线对称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Rectangle 2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5168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5" name=""/>
          <p:cNvGraphicFramePr/>
          <p:nvPr/>
        </p:nvGraphicFramePr>
        <p:xfrm>
          <a:off x="468360" y="1052640"/>
          <a:ext cx="8229600" cy="5348160"/>
        </p:xfrm>
        <a:graphic>
          <a:graphicData uri="http://schemas.openxmlformats.org/drawingml/2006/table">
            <a:tbl>
              <a:tblPr/>
              <a:tblGrid>
                <a:gridCol w="1811160"/>
                <a:gridCol w="3024360"/>
                <a:gridCol w="3394080"/>
              </a:tblGrid>
              <a:tr h="90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轴对称图形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4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轴对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4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4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别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对一个图形而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对两个图形而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是一个具有轴对称的图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是两个图形的位置关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4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联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4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系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都有对称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可以转化：如果把轴对称图形沿对称轴分中两部分，则这两个图形就关于这条直线对称；反过来如果把两个成轴对称的图形看成一个整体，那么它是一个轴对称图形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mp1001"/>
          <p:cNvPicPr/>
          <p:nvPr/>
        </p:nvPicPr>
        <p:blipFill>
          <a:blip r:embed="rId1"/>
          <a:stretch/>
        </p:blipFill>
        <p:spPr>
          <a:xfrm>
            <a:off x="755640" y="1484280"/>
            <a:ext cx="3733920" cy="3525840"/>
          </a:xfrm>
          <a:prstGeom prst="rect">
            <a:avLst/>
          </a:prstGeom>
          <a:ln w="0">
            <a:noFill/>
          </a:ln>
        </p:spPr>
      </p:pic>
      <p:sp>
        <p:nvSpPr>
          <p:cNvPr id="667" name="Line 5"/>
          <p:cNvSpPr/>
          <p:nvPr/>
        </p:nvSpPr>
        <p:spPr>
          <a:xfrm>
            <a:off x="2627280" y="692280"/>
            <a:ext cx="0" cy="56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8" name="Group 36"/>
          <p:cNvGrpSpPr/>
          <p:nvPr/>
        </p:nvGrpSpPr>
        <p:grpSpPr>
          <a:xfrm>
            <a:off x="5219640" y="1916280"/>
            <a:ext cx="3201840" cy="3024720"/>
            <a:chOff x="5219640" y="1916280"/>
            <a:chExt cx="3201840" cy="3024720"/>
          </a:xfrm>
        </p:grpSpPr>
        <p:grpSp>
          <p:nvGrpSpPr>
            <p:cNvPr id="669" name="Group 7"/>
            <p:cNvGrpSpPr/>
            <p:nvPr/>
          </p:nvGrpSpPr>
          <p:grpSpPr>
            <a:xfrm>
              <a:off x="7164360" y="1916280"/>
              <a:ext cx="1257120" cy="3024720"/>
              <a:chOff x="7164360" y="1916280"/>
              <a:chExt cx="1257120" cy="3024720"/>
            </a:xfrm>
          </p:grpSpPr>
          <p:sp>
            <p:nvSpPr>
              <p:cNvPr id="670" name="Line 8"/>
              <p:cNvSpPr/>
              <p:nvPr/>
            </p:nvSpPr>
            <p:spPr>
              <a:xfrm flipH="1">
                <a:off x="7164360" y="1916280"/>
                <a:ext cx="12571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9"/>
              <p:cNvSpPr/>
              <p:nvPr/>
            </p:nvSpPr>
            <p:spPr>
              <a:xfrm>
                <a:off x="7164360" y="1916280"/>
                <a:ext cx="0" cy="299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10"/>
              <p:cNvSpPr/>
              <p:nvPr/>
            </p:nvSpPr>
            <p:spPr>
              <a:xfrm>
                <a:off x="8421480" y="1916280"/>
                <a:ext cx="0" cy="780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11"/>
              <p:cNvSpPr/>
              <p:nvPr/>
            </p:nvSpPr>
            <p:spPr>
              <a:xfrm flipH="1">
                <a:off x="7841160" y="2697120"/>
                <a:ext cx="580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12"/>
              <p:cNvSpPr/>
              <p:nvPr/>
            </p:nvSpPr>
            <p:spPr>
              <a:xfrm>
                <a:off x="7841160" y="2697120"/>
                <a:ext cx="0" cy="2243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13"/>
              <p:cNvSpPr/>
              <p:nvPr/>
            </p:nvSpPr>
            <p:spPr>
              <a:xfrm flipH="1">
                <a:off x="7164360" y="4910040"/>
                <a:ext cx="6768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14"/>
            <p:cNvGrpSpPr/>
            <p:nvPr/>
          </p:nvGrpSpPr>
          <p:grpSpPr>
            <a:xfrm>
              <a:off x="5219640" y="1916280"/>
              <a:ext cx="1257120" cy="3024720"/>
              <a:chOff x="5219640" y="1916280"/>
              <a:chExt cx="1257120" cy="3024720"/>
            </a:xfrm>
          </p:grpSpPr>
          <p:sp>
            <p:nvSpPr>
              <p:cNvPr id="677" name="Line 15"/>
              <p:cNvSpPr/>
              <p:nvPr/>
            </p:nvSpPr>
            <p:spPr>
              <a:xfrm>
                <a:off x="5219640" y="1916280"/>
                <a:ext cx="12571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16"/>
              <p:cNvSpPr/>
              <p:nvPr/>
            </p:nvSpPr>
            <p:spPr>
              <a:xfrm>
                <a:off x="6476760" y="1916280"/>
                <a:ext cx="0" cy="299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17"/>
              <p:cNvSpPr/>
              <p:nvPr/>
            </p:nvSpPr>
            <p:spPr>
              <a:xfrm>
                <a:off x="5219640" y="1916280"/>
                <a:ext cx="0" cy="780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8"/>
              <p:cNvSpPr/>
              <p:nvPr/>
            </p:nvSpPr>
            <p:spPr>
              <a:xfrm>
                <a:off x="5219640" y="2697120"/>
                <a:ext cx="580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9"/>
              <p:cNvSpPr/>
              <p:nvPr/>
            </p:nvSpPr>
            <p:spPr>
              <a:xfrm>
                <a:off x="5799960" y="2697120"/>
                <a:ext cx="0" cy="2243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0"/>
              <p:cNvSpPr/>
              <p:nvPr/>
            </p:nvSpPr>
            <p:spPr>
              <a:xfrm>
                <a:off x="5799960" y="4910040"/>
                <a:ext cx="6768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21"/>
            <p:cNvGrpSpPr/>
            <p:nvPr/>
          </p:nvGrpSpPr>
          <p:grpSpPr>
            <a:xfrm>
              <a:off x="7164360" y="1916280"/>
              <a:ext cx="1257120" cy="3024720"/>
              <a:chOff x="7164360" y="1916280"/>
              <a:chExt cx="1257120" cy="3024720"/>
            </a:xfrm>
          </p:grpSpPr>
          <p:sp>
            <p:nvSpPr>
              <p:cNvPr id="684" name="Line 22"/>
              <p:cNvSpPr/>
              <p:nvPr/>
            </p:nvSpPr>
            <p:spPr>
              <a:xfrm flipH="1">
                <a:off x="7164360" y="1916280"/>
                <a:ext cx="1257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3"/>
              <p:cNvSpPr/>
              <p:nvPr/>
            </p:nvSpPr>
            <p:spPr>
              <a:xfrm>
                <a:off x="7164360" y="1916280"/>
                <a:ext cx="0" cy="2993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4"/>
              <p:cNvSpPr/>
              <p:nvPr/>
            </p:nvSpPr>
            <p:spPr>
              <a:xfrm>
                <a:off x="8421480" y="1916280"/>
                <a:ext cx="0" cy="780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 flipH="1">
                <a:off x="7841160" y="2697120"/>
                <a:ext cx="5803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6"/>
              <p:cNvSpPr/>
              <p:nvPr/>
            </p:nvSpPr>
            <p:spPr>
              <a:xfrm>
                <a:off x="7841160" y="2697120"/>
                <a:ext cx="0" cy="2243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7"/>
              <p:cNvSpPr/>
              <p:nvPr/>
            </p:nvSpPr>
            <p:spPr>
              <a:xfrm flipH="1">
                <a:off x="7164360" y="4910040"/>
                <a:ext cx="676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28"/>
            <p:cNvGrpSpPr/>
            <p:nvPr/>
          </p:nvGrpSpPr>
          <p:grpSpPr>
            <a:xfrm>
              <a:off x="5219640" y="1916280"/>
              <a:ext cx="1257120" cy="3024720"/>
              <a:chOff x="5219640" y="1916280"/>
              <a:chExt cx="1257120" cy="3024720"/>
            </a:xfrm>
          </p:grpSpPr>
          <p:sp>
            <p:nvSpPr>
              <p:cNvPr id="691" name="Line 29"/>
              <p:cNvSpPr/>
              <p:nvPr/>
            </p:nvSpPr>
            <p:spPr>
              <a:xfrm>
                <a:off x="5219640" y="1916280"/>
                <a:ext cx="12571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0"/>
              <p:cNvSpPr/>
              <p:nvPr/>
            </p:nvSpPr>
            <p:spPr>
              <a:xfrm>
                <a:off x="6476760" y="1916280"/>
                <a:ext cx="0" cy="2993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31"/>
              <p:cNvSpPr/>
              <p:nvPr/>
            </p:nvSpPr>
            <p:spPr>
              <a:xfrm>
                <a:off x="5219640" y="1916280"/>
                <a:ext cx="0" cy="780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32"/>
              <p:cNvSpPr/>
              <p:nvPr/>
            </p:nvSpPr>
            <p:spPr>
              <a:xfrm>
                <a:off x="5219640" y="2697120"/>
                <a:ext cx="5803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33"/>
              <p:cNvSpPr/>
              <p:nvPr/>
            </p:nvSpPr>
            <p:spPr>
              <a:xfrm>
                <a:off x="5799960" y="2697120"/>
                <a:ext cx="0" cy="22438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34"/>
              <p:cNvSpPr/>
              <p:nvPr/>
            </p:nvSpPr>
            <p:spPr>
              <a:xfrm>
                <a:off x="5799960" y="4910040"/>
                <a:ext cx="6768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7" name="Line 35"/>
          <p:cNvSpPr/>
          <p:nvPr/>
        </p:nvSpPr>
        <p:spPr>
          <a:xfrm>
            <a:off x="6804000" y="765000"/>
            <a:ext cx="0" cy="525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Rectangle 4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Goudy Old Style"/>
              </a:rPr>
              <a:t>3.</a:t>
            </a:r>
            <a:r>
              <a:rPr b="1" lang="zh-CN" sz="4800" spc="-1" strike="noStrike">
                <a:solidFill>
                  <a:srgbClr val="ff66ff"/>
                </a:solidFill>
                <a:latin typeface="Goudy Old Style"/>
              </a:rPr>
              <a:t>对称轴的性质：</a:t>
            </a:r>
            <a:endParaRPr b="0" lang="en-US" sz="4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Goudy Old Style"/>
              </a:rPr>
              <a:t>垂直平分每对应点所连的线段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68"/>
          <p:cNvGrpSpPr/>
          <p:nvPr/>
        </p:nvGrpSpPr>
        <p:grpSpPr>
          <a:xfrm>
            <a:off x="-144720" y="1484280"/>
            <a:ext cx="3816000" cy="3744720"/>
            <a:chOff x="-144720" y="1484280"/>
            <a:chExt cx="3816000" cy="3744720"/>
          </a:xfrm>
        </p:grpSpPr>
        <p:sp>
          <p:nvSpPr>
            <p:cNvPr id="701" name="AutoShape 69"/>
            <p:cNvSpPr/>
            <p:nvPr/>
          </p:nvSpPr>
          <p:spPr>
            <a:xfrm>
              <a:off x="1223640" y="1484280"/>
              <a:ext cx="1079280" cy="187164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AutoShape 70"/>
            <p:cNvSpPr/>
            <p:nvPr/>
          </p:nvSpPr>
          <p:spPr>
            <a:xfrm rot="3600000">
              <a:off x="2051280" y="1953000"/>
              <a:ext cx="1079280" cy="187128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AutoShape 71"/>
            <p:cNvSpPr/>
            <p:nvPr/>
          </p:nvSpPr>
          <p:spPr>
            <a:xfrm rot="17939400">
              <a:off x="395640" y="1953360"/>
              <a:ext cx="1079280" cy="187128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AutoShape 72"/>
            <p:cNvSpPr/>
            <p:nvPr/>
          </p:nvSpPr>
          <p:spPr>
            <a:xfrm rot="14388000">
              <a:off x="395640" y="2887920"/>
              <a:ext cx="1079640" cy="187128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AutoShape 73"/>
            <p:cNvSpPr/>
            <p:nvPr/>
          </p:nvSpPr>
          <p:spPr>
            <a:xfrm rot="17943600">
              <a:off x="2051280" y="2887920"/>
              <a:ext cx="1079640" cy="187128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AutoShape 74"/>
            <p:cNvSpPr/>
            <p:nvPr/>
          </p:nvSpPr>
          <p:spPr>
            <a:xfrm>
              <a:off x="1223640" y="3357360"/>
              <a:ext cx="1079280" cy="187164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7" name="Rectangle 2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516880" cy="1158840"/>
          </a:xfrm>
          <a:prstGeom prst="rect">
            <a:avLst/>
          </a:prstGeom>
          <a:ln w="0">
            <a:noFill/>
          </a:ln>
        </p:spPr>
      </p:pic>
      <p:sp>
        <p:nvSpPr>
          <p:cNvPr id="708" name="Line 67"/>
          <p:cNvSpPr/>
          <p:nvPr/>
        </p:nvSpPr>
        <p:spPr>
          <a:xfrm>
            <a:off x="1763640" y="981000"/>
            <a:ext cx="0" cy="4465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75"/>
          <p:cNvSpPr/>
          <p:nvPr/>
        </p:nvSpPr>
        <p:spPr>
          <a:xfrm>
            <a:off x="0" y="3357720"/>
            <a:ext cx="4140360" cy="0"/>
          </a:xfrm>
          <a:prstGeom prst="line">
            <a:avLst/>
          </a:prstGeom>
          <a:ln w="540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76"/>
          <p:cNvSpPr/>
          <p:nvPr/>
        </p:nvSpPr>
        <p:spPr>
          <a:xfrm>
            <a:off x="1230840" y="5589720"/>
            <a:ext cx="8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77"/>
          <p:cNvSpPr/>
          <p:nvPr/>
        </p:nvSpPr>
        <p:spPr>
          <a:xfrm>
            <a:off x="4500720" y="2349360"/>
            <a:ext cx="3456000" cy="28083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Line 78"/>
          <p:cNvSpPr/>
          <p:nvPr/>
        </p:nvSpPr>
        <p:spPr>
          <a:xfrm>
            <a:off x="6227640" y="1484280"/>
            <a:ext cx="0" cy="4465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4"/>
          <p:cNvGrpSpPr/>
          <p:nvPr/>
        </p:nvGrpSpPr>
        <p:grpSpPr>
          <a:xfrm>
            <a:off x="1908000" y="3789360"/>
            <a:ext cx="3201840" cy="2233080"/>
            <a:chOff x="1908000" y="3789360"/>
            <a:chExt cx="3201840" cy="2233080"/>
          </a:xfrm>
        </p:grpSpPr>
        <p:grpSp>
          <p:nvGrpSpPr>
            <p:cNvPr id="715" name="Group 5"/>
            <p:cNvGrpSpPr/>
            <p:nvPr/>
          </p:nvGrpSpPr>
          <p:grpSpPr>
            <a:xfrm>
              <a:off x="3852720" y="3789360"/>
              <a:ext cx="1257120" cy="2233080"/>
              <a:chOff x="3852720" y="3789360"/>
              <a:chExt cx="1257120" cy="2233080"/>
            </a:xfrm>
          </p:grpSpPr>
          <p:sp>
            <p:nvSpPr>
              <p:cNvPr id="716" name="Line 6"/>
              <p:cNvSpPr/>
              <p:nvPr/>
            </p:nvSpPr>
            <p:spPr>
              <a:xfrm flipH="1">
                <a:off x="3852720" y="3789360"/>
                <a:ext cx="125712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7"/>
              <p:cNvSpPr/>
              <p:nvPr/>
            </p:nvSpPr>
            <p:spPr>
              <a:xfrm>
                <a:off x="3852720" y="3789360"/>
                <a:ext cx="0" cy="22100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8"/>
              <p:cNvSpPr/>
              <p:nvPr/>
            </p:nvSpPr>
            <p:spPr>
              <a:xfrm>
                <a:off x="5109840" y="3789360"/>
                <a:ext cx="0" cy="5763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9"/>
              <p:cNvSpPr/>
              <p:nvPr/>
            </p:nvSpPr>
            <p:spPr>
              <a:xfrm flipH="1">
                <a:off x="4529520" y="4365720"/>
                <a:ext cx="58032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10"/>
              <p:cNvSpPr/>
              <p:nvPr/>
            </p:nvSpPr>
            <p:spPr>
              <a:xfrm>
                <a:off x="4529520" y="4365720"/>
                <a:ext cx="0" cy="16567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1"/>
              <p:cNvSpPr/>
              <p:nvPr/>
            </p:nvSpPr>
            <p:spPr>
              <a:xfrm flipH="1">
                <a:off x="3852720" y="5999400"/>
                <a:ext cx="67680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2"/>
            <p:cNvGrpSpPr/>
            <p:nvPr/>
          </p:nvGrpSpPr>
          <p:grpSpPr>
            <a:xfrm>
              <a:off x="1908000" y="3789360"/>
              <a:ext cx="1257120" cy="2233080"/>
              <a:chOff x="1908000" y="3789360"/>
              <a:chExt cx="1257120" cy="2233080"/>
            </a:xfrm>
          </p:grpSpPr>
          <p:sp>
            <p:nvSpPr>
              <p:cNvPr id="723" name="Line 13"/>
              <p:cNvSpPr/>
              <p:nvPr/>
            </p:nvSpPr>
            <p:spPr>
              <a:xfrm>
                <a:off x="1908000" y="3789360"/>
                <a:ext cx="125712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4"/>
              <p:cNvSpPr/>
              <p:nvPr/>
            </p:nvSpPr>
            <p:spPr>
              <a:xfrm>
                <a:off x="3165120" y="3789360"/>
                <a:ext cx="0" cy="22100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5"/>
              <p:cNvSpPr/>
              <p:nvPr/>
            </p:nvSpPr>
            <p:spPr>
              <a:xfrm>
                <a:off x="1908000" y="3789360"/>
                <a:ext cx="0" cy="5763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6"/>
              <p:cNvSpPr/>
              <p:nvPr/>
            </p:nvSpPr>
            <p:spPr>
              <a:xfrm>
                <a:off x="1908000" y="4365720"/>
                <a:ext cx="58032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17"/>
              <p:cNvSpPr/>
              <p:nvPr/>
            </p:nvSpPr>
            <p:spPr>
              <a:xfrm>
                <a:off x="2488320" y="4365720"/>
                <a:ext cx="0" cy="16567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18"/>
              <p:cNvSpPr/>
              <p:nvPr/>
            </p:nvSpPr>
            <p:spPr>
              <a:xfrm>
                <a:off x="2488320" y="5999400"/>
                <a:ext cx="67680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9"/>
            <p:cNvGrpSpPr/>
            <p:nvPr/>
          </p:nvGrpSpPr>
          <p:grpSpPr>
            <a:xfrm>
              <a:off x="3852720" y="3789360"/>
              <a:ext cx="1257120" cy="2233080"/>
              <a:chOff x="3852720" y="3789360"/>
              <a:chExt cx="1257120" cy="2233080"/>
            </a:xfrm>
          </p:grpSpPr>
          <p:sp>
            <p:nvSpPr>
              <p:cNvPr id="730" name="Line 20"/>
              <p:cNvSpPr/>
              <p:nvPr/>
            </p:nvSpPr>
            <p:spPr>
              <a:xfrm flipH="1">
                <a:off x="3852720" y="3789360"/>
                <a:ext cx="125712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1"/>
              <p:cNvSpPr/>
              <p:nvPr/>
            </p:nvSpPr>
            <p:spPr>
              <a:xfrm>
                <a:off x="3852720" y="3789360"/>
                <a:ext cx="0" cy="22100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2"/>
              <p:cNvSpPr/>
              <p:nvPr/>
            </p:nvSpPr>
            <p:spPr>
              <a:xfrm>
                <a:off x="5109840" y="3789360"/>
                <a:ext cx="0" cy="5763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3"/>
              <p:cNvSpPr/>
              <p:nvPr/>
            </p:nvSpPr>
            <p:spPr>
              <a:xfrm flipH="1">
                <a:off x="4529520" y="4365720"/>
                <a:ext cx="58032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4"/>
              <p:cNvSpPr/>
              <p:nvPr/>
            </p:nvSpPr>
            <p:spPr>
              <a:xfrm>
                <a:off x="4529520" y="4365720"/>
                <a:ext cx="0" cy="16567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5"/>
              <p:cNvSpPr/>
              <p:nvPr/>
            </p:nvSpPr>
            <p:spPr>
              <a:xfrm flipH="1">
                <a:off x="3852720" y="5999400"/>
                <a:ext cx="67680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6"/>
            <p:cNvGrpSpPr/>
            <p:nvPr/>
          </p:nvGrpSpPr>
          <p:grpSpPr>
            <a:xfrm>
              <a:off x="1908000" y="3789360"/>
              <a:ext cx="1257120" cy="2233080"/>
              <a:chOff x="1908000" y="3789360"/>
              <a:chExt cx="1257120" cy="2233080"/>
            </a:xfrm>
          </p:grpSpPr>
          <p:sp>
            <p:nvSpPr>
              <p:cNvPr id="737" name="Line 27"/>
              <p:cNvSpPr/>
              <p:nvPr/>
            </p:nvSpPr>
            <p:spPr>
              <a:xfrm>
                <a:off x="1908000" y="3789360"/>
                <a:ext cx="125712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8"/>
              <p:cNvSpPr/>
              <p:nvPr/>
            </p:nvSpPr>
            <p:spPr>
              <a:xfrm>
                <a:off x="3165120" y="3789360"/>
                <a:ext cx="0" cy="22100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9"/>
              <p:cNvSpPr/>
              <p:nvPr/>
            </p:nvSpPr>
            <p:spPr>
              <a:xfrm>
                <a:off x="1908000" y="3789360"/>
                <a:ext cx="0" cy="5763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30"/>
              <p:cNvSpPr/>
              <p:nvPr/>
            </p:nvSpPr>
            <p:spPr>
              <a:xfrm>
                <a:off x="1908000" y="4365720"/>
                <a:ext cx="58032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31"/>
              <p:cNvSpPr/>
              <p:nvPr/>
            </p:nvSpPr>
            <p:spPr>
              <a:xfrm>
                <a:off x="2488320" y="4365720"/>
                <a:ext cx="0" cy="16567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32"/>
              <p:cNvSpPr/>
              <p:nvPr/>
            </p:nvSpPr>
            <p:spPr>
              <a:xfrm>
                <a:off x="2488320" y="5999400"/>
                <a:ext cx="676800" cy="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Rectangle 33"/>
          <p:cNvSpPr/>
          <p:nvPr/>
        </p:nvSpPr>
        <p:spPr>
          <a:xfrm>
            <a:off x="0" y="1341360"/>
            <a:ext cx="889308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因为对称轴垂直平分每对对应点所连接的线段，所以只要找一对对应点，用圆规作出对应点所连线段的垂直平分线即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Line 34"/>
          <p:cNvSpPr/>
          <p:nvPr/>
        </p:nvSpPr>
        <p:spPr>
          <a:xfrm>
            <a:off x="3132000" y="3789360"/>
            <a:ext cx="7192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35"/>
          <p:cNvSpPr/>
          <p:nvPr/>
        </p:nvSpPr>
        <p:spPr>
          <a:xfrm>
            <a:off x="3492360" y="3429000"/>
            <a:ext cx="0" cy="259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Rectangle 4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516880" cy="115884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 txBox="1"/>
          <p:nvPr/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Goudy Old Style"/>
              </a:rPr>
              <a:t>5.</a:t>
            </a:r>
            <a:r>
              <a:rPr b="1" lang="zh-CN" sz="4800" spc="-1" strike="noStrike">
                <a:solidFill>
                  <a:srgbClr val="ff66ff"/>
                </a:solidFill>
                <a:latin typeface="Goudy Old Style"/>
              </a:rPr>
              <a:t>线段垂直平分线的性质</a:t>
            </a:r>
            <a:r>
              <a:rPr b="1" lang="zh-CN" sz="4000" spc="-1" strike="noStrike">
                <a:solidFill>
                  <a:srgbClr val="3333ff"/>
                </a:solidFill>
                <a:latin typeface="Goudy Old Style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Goudy Old Style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Goudy Old Style"/>
              </a:rPr>
              <a:t>线段垂直平分线上的点到线段两个短点的距离相等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8" name="Line 5"/>
          <p:cNvSpPr/>
          <p:nvPr/>
        </p:nvSpPr>
        <p:spPr>
          <a:xfrm>
            <a:off x="2340000" y="5445000"/>
            <a:ext cx="26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Line 6"/>
          <p:cNvSpPr/>
          <p:nvPr/>
        </p:nvSpPr>
        <p:spPr>
          <a:xfrm>
            <a:off x="3635280" y="306864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 flipH="1">
            <a:off x="2340000" y="3141720"/>
            <a:ext cx="1295280" cy="23032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3635280" y="3141720"/>
            <a:ext cx="1368360" cy="23032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Line 9"/>
          <p:cNvSpPr/>
          <p:nvPr/>
        </p:nvSpPr>
        <p:spPr>
          <a:xfrm flipH="1" flipV="1">
            <a:off x="2340000" y="5444640"/>
            <a:ext cx="1295280" cy="505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Line 10"/>
          <p:cNvSpPr/>
          <p:nvPr/>
        </p:nvSpPr>
        <p:spPr>
          <a:xfrm flipV="1">
            <a:off x="3635280" y="5444640"/>
            <a:ext cx="1368360" cy="505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Line 11"/>
          <p:cNvSpPr/>
          <p:nvPr/>
        </p:nvSpPr>
        <p:spPr>
          <a:xfrm>
            <a:off x="3635280" y="5229360"/>
            <a:ext cx="216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Line 12"/>
          <p:cNvSpPr/>
          <p:nvPr/>
        </p:nvSpPr>
        <p:spPr>
          <a:xfrm>
            <a:off x="3851280" y="5229360"/>
            <a:ext cx="0" cy="144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成轴对称的两个图形一定是全等形。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全等的两个图形一定成轴对称。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Goudy Old Style"/>
              </a:rPr>
              <a:t>1.</a:t>
            </a:r>
            <a:r>
              <a:rPr b="0" lang="zh-CN" sz="4000" spc="-1" strike="noStrike">
                <a:solidFill>
                  <a:srgbClr val="3333ff"/>
                </a:solidFill>
                <a:latin typeface="Goudy Old Style"/>
              </a:rPr>
              <a:t>在回顾和思考的基础上，构建本章知识结构图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Goudy Old Style"/>
              </a:rPr>
              <a:t>2.</a:t>
            </a:r>
            <a:r>
              <a:rPr b="0" lang="zh-CN" sz="4000" spc="-1" strike="noStrike">
                <a:solidFill>
                  <a:srgbClr val="3333ff"/>
                </a:solidFill>
                <a:latin typeface="Goudy Old Style"/>
              </a:rPr>
              <a:t>通过对概念、性质、判定等内容的回顾和归类，形成知识链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Rectangle 4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Goudy Old Style"/>
              </a:rPr>
              <a:t>5.</a:t>
            </a:r>
            <a:r>
              <a:rPr b="1" lang="zh-CN" sz="4800" spc="-1" strike="noStrike">
                <a:solidFill>
                  <a:srgbClr val="ff66ff"/>
                </a:solidFill>
                <a:latin typeface="Goudy Old Style"/>
              </a:rPr>
              <a:t>轴对称变换：</a:t>
            </a:r>
            <a:endParaRPr b="0" lang="en-US" sz="4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Goudy Old Style"/>
              </a:rPr>
              <a:t>         </a:t>
            </a:r>
            <a:r>
              <a:rPr b="1" lang="zh-CN" sz="4000" spc="-1" strike="noStrike">
                <a:solidFill>
                  <a:srgbClr val="3333ff"/>
                </a:solidFill>
                <a:latin typeface="Goudy Old Style"/>
              </a:rPr>
              <a:t>由一个平面图形得到它的轴对称图形叫做轴对称变换。既做轴对称图形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761" name="Line 5"/>
          <p:cNvSpPr/>
          <p:nvPr/>
        </p:nvSpPr>
        <p:spPr>
          <a:xfrm flipV="1">
            <a:off x="2411280" y="1700280"/>
            <a:ext cx="1081080" cy="43344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Line 7"/>
          <p:cNvSpPr/>
          <p:nvPr/>
        </p:nvSpPr>
        <p:spPr>
          <a:xfrm>
            <a:off x="3492360" y="1700280"/>
            <a:ext cx="719280" cy="144144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Line 8"/>
          <p:cNvSpPr/>
          <p:nvPr/>
        </p:nvSpPr>
        <p:spPr>
          <a:xfrm>
            <a:off x="3995640" y="1413000"/>
            <a:ext cx="0" cy="3456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9"/>
          <p:cNvSpPr/>
          <p:nvPr/>
        </p:nvSpPr>
        <p:spPr>
          <a:xfrm>
            <a:off x="2411280" y="2133720"/>
            <a:ext cx="1800360" cy="100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1853280" y="5229360"/>
            <a:ext cx="50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作出三角形关于直线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L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对称的图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11"/>
          <p:cNvSpPr/>
          <p:nvPr/>
        </p:nvSpPr>
        <p:spPr>
          <a:xfrm flipH="1">
            <a:off x="3779640" y="3141720"/>
            <a:ext cx="431640" cy="0"/>
          </a:xfrm>
          <a:prstGeom prst="line">
            <a:avLst/>
          </a:prstGeom>
          <a:ln w="31680">
            <a:solidFill>
              <a:srgbClr val="e1f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Oval 12"/>
          <p:cNvSpPr/>
          <p:nvPr/>
        </p:nvSpPr>
        <p:spPr>
          <a:xfrm>
            <a:off x="3780000" y="3068640"/>
            <a:ext cx="71280" cy="7128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Oval 13"/>
          <p:cNvSpPr/>
          <p:nvPr/>
        </p:nvSpPr>
        <p:spPr>
          <a:xfrm>
            <a:off x="4140360" y="3068640"/>
            <a:ext cx="71280" cy="7128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Oval 14"/>
          <p:cNvSpPr/>
          <p:nvPr/>
        </p:nvSpPr>
        <p:spPr>
          <a:xfrm>
            <a:off x="3419640" y="1628640"/>
            <a:ext cx="71280" cy="7164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Oval 15"/>
          <p:cNvSpPr/>
          <p:nvPr/>
        </p:nvSpPr>
        <p:spPr>
          <a:xfrm>
            <a:off x="2411280" y="2060640"/>
            <a:ext cx="71640" cy="7128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Line 17"/>
          <p:cNvSpPr/>
          <p:nvPr/>
        </p:nvSpPr>
        <p:spPr>
          <a:xfrm flipH="1">
            <a:off x="3492000" y="1700280"/>
            <a:ext cx="863640" cy="0"/>
          </a:xfrm>
          <a:prstGeom prst="line">
            <a:avLst/>
          </a:prstGeom>
          <a:ln w="31680">
            <a:solidFill>
              <a:srgbClr val="e1f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Line 18"/>
          <p:cNvSpPr/>
          <p:nvPr/>
        </p:nvSpPr>
        <p:spPr>
          <a:xfrm flipH="1">
            <a:off x="2484360" y="2133720"/>
            <a:ext cx="2951280" cy="0"/>
          </a:xfrm>
          <a:prstGeom prst="line">
            <a:avLst/>
          </a:prstGeom>
          <a:ln w="31680">
            <a:solidFill>
              <a:srgbClr val="e1f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Oval 19"/>
          <p:cNvSpPr/>
          <p:nvPr/>
        </p:nvSpPr>
        <p:spPr>
          <a:xfrm>
            <a:off x="5364000" y="2060640"/>
            <a:ext cx="71640" cy="7128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4356000" y="1628640"/>
            <a:ext cx="71640" cy="7164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Line 21"/>
          <p:cNvSpPr/>
          <p:nvPr/>
        </p:nvSpPr>
        <p:spPr>
          <a:xfrm flipH="1">
            <a:off x="3780000" y="1700280"/>
            <a:ext cx="576000" cy="144144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Line 22"/>
          <p:cNvSpPr/>
          <p:nvPr/>
        </p:nvSpPr>
        <p:spPr>
          <a:xfrm>
            <a:off x="4427640" y="1700280"/>
            <a:ext cx="1008000" cy="433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Line 23"/>
          <p:cNvSpPr/>
          <p:nvPr/>
        </p:nvSpPr>
        <p:spPr>
          <a:xfrm flipH="1">
            <a:off x="3779640" y="2133720"/>
            <a:ext cx="1655640" cy="10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如图：要在燃气管道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上修建一个泵站，分别向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两镇供气，泵站修在管道什么地方，可使所用的输气管道线最短？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0" name="Line 4"/>
          <p:cNvSpPr/>
          <p:nvPr/>
        </p:nvSpPr>
        <p:spPr>
          <a:xfrm>
            <a:off x="2124000" y="494172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Oval 5"/>
          <p:cNvSpPr/>
          <p:nvPr/>
        </p:nvSpPr>
        <p:spPr>
          <a:xfrm>
            <a:off x="2771640" y="422100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Oval 6"/>
          <p:cNvSpPr/>
          <p:nvPr/>
        </p:nvSpPr>
        <p:spPr>
          <a:xfrm>
            <a:off x="5003640" y="378936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2465280" y="3492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522108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6445080" y="4653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5076720" y="3860640"/>
            <a:ext cx="0" cy="2160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Oval 11"/>
          <p:cNvSpPr/>
          <p:nvPr/>
        </p:nvSpPr>
        <p:spPr>
          <a:xfrm>
            <a:off x="5003640" y="59500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2843280" y="4292640"/>
            <a:ext cx="2233440" cy="1728720"/>
          </a:xfrm>
          <a:prstGeom prst="line">
            <a:avLst/>
          </a:prstGeom>
          <a:ln w="349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334980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 flipV="1">
            <a:off x="3708360" y="3933360"/>
            <a:ext cx="1295280" cy="107964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724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2" name=""/>
          <p:cNvGraphicFramePr/>
          <p:nvPr/>
        </p:nvGraphicFramePr>
        <p:xfrm>
          <a:off x="457200" y="1557360"/>
          <a:ext cx="8229600" cy="4608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平面直角坐标系中：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点（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Y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）关于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轴对称的点的坐标是（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 Y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）；关于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Y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轴对称的点的坐标是（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 X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Y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）；关于原点对称的点的坐标是（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X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 Y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）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Rectangle 2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515440" cy="11588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    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四边形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ABCD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的四个顶点坐标分别是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      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A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-4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，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      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B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-2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，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      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C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-2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，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4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      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D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-4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，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3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      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分别作出四边形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    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关于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Y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轴和</a:t>
            </a:r>
            <a:r>
              <a:rPr b="0" lang="en-US" sz="2400" spc="-1" strike="noStrike">
                <a:solidFill>
                  <a:srgbClr val="3333ff"/>
                </a:solidFill>
                <a:latin typeface="Goudy Old Style"/>
              </a:rPr>
              <a:t>X</a:t>
            </a:r>
            <a:r>
              <a:rPr b="0" lang="zh-CN" sz="2400" spc="-1" strike="noStrike">
                <a:solidFill>
                  <a:srgbClr val="3333ff"/>
                </a:solidFill>
                <a:latin typeface="Goudy Old Style"/>
              </a:rPr>
              <a:t>轴对称的图形。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3635280" y="907920"/>
          <a:ext cx="5046840" cy="5699160"/>
        </p:xfrm>
        <a:graphic>
          <a:graphicData uri="http://schemas.openxmlformats.org/drawingml/2006/table">
            <a:tbl>
              <a:tblPr/>
              <a:tblGrid>
                <a:gridCol w="459000"/>
                <a:gridCol w="477720"/>
                <a:gridCol w="439560"/>
                <a:gridCol w="459000"/>
                <a:gridCol w="458640"/>
                <a:gridCol w="443160"/>
                <a:gridCol w="504720"/>
                <a:gridCol w="358920"/>
                <a:gridCol w="529920"/>
                <a:gridCol w="457200"/>
                <a:gridCol w="45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6" name="Line 154"/>
          <p:cNvSpPr/>
          <p:nvPr/>
        </p:nvSpPr>
        <p:spPr>
          <a:xfrm>
            <a:off x="3635280" y="400536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Line 155"/>
          <p:cNvSpPr/>
          <p:nvPr/>
        </p:nvSpPr>
        <p:spPr>
          <a:xfrm flipV="1">
            <a:off x="5940360" y="980640"/>
            <a:ext cx="0" cy="55436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156"/>
          <p:cNvSpPr/>
          <p:nvPr/>
        </p:nvSpPr>
        <p:spPr>
          <a:xfrm>
            <a:off x="8318880" y="407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157"/>
          <p:cNvSpPr/>
          <p:nvPr/>
        </p:nvSpPr>
        <p:spPr>
          <a:xfrm>
            <a:off x="6013800" y="98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158"/>
          <p:cNvSpPr/>
          <p:nvPr/>
        </p:nvSpPr>
        <p:spPr>
          <a:xfrm>
            <a:off x="5941440" y="407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Oval 159"/>
          <p:cNvSpPr/>
          <p:nvPr/>
        </p:nvSpPr>
        <p:spPr>
          <a:xfrm>
            <a:off x="3995640" y="3429000"/>
            <a:ext cx="1429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Oval 162"/>
          <p:cNvSpPr/>
          <p:nvPr/>
        </p:nvSpPr>
        <p:spPr>
          <a:xfrm>
            <a:off x="4932360" y="3429000"/>
            <a:ext cx="1429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163"/>
          <p:cNvSpPr/>
          <p:nvPr/>
        </p:nvSpPr>
        <p:spPr>
          <a:xfrm>
            <a:off x="4932360" y="1844640"/>
            <a:ext cx="1429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Oval 164"/>
          <p:cNvSpPr/>
          <p:nvPr/>
        </p:nvSpPr>
        <p:spPr>
          <a:xfrm>
            <a:off x="3995640" y="2421000"/>
            <a:ext cx="1429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165"/>
          <p:cNvSpPr/>
          <p:nvPr/>
        </p:nvSpPr>
        <p:spPr>
          <a:xfrm>
            <a:off x="4067280" y="3500280"/>
            <a:ext cx="93636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169"/>
          <p:cNvSpPr/>
          <p:nvPr/>
        </p:nvSpPr>
        <p:spPr>
          <a:xfrm>
            <a:off x="5003640" y="1916280"/>
            <a:ext cx="0" cy="1584000"/>
          </a:xfrm>
          <a:prstGeom prst="line">
            <a:avLst/>
          </a:prstGeom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Line 170"/>
          <p:cNvSpPr/>
          <p:nvPr/>
        </p:nvSpPr>
        <p:spPr>
          <a:xfrm flipV="1">
            <a:off x="4067280" y="1916280"/>
            <a:ext cx="936360" cy="576000"/>
          </a:xfrm>
          <a:prstGeom prst="line">
            <a:avLst/>
          </a:prstGeom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Line 171"/>
          <p:cNvSpPr/>
          <p:nvPr/>
        </p:nvSpPr>
        <p:spPr>
          <a:xfrm>
            <a:off x="4067280" y="2492280"/>
            <a:ext cx="0" cy="1008000"/>
          </a:xfrm>
          <a:prstGeom prst="line">
            <a:avLst/>
          </a:prstGeom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 Box 172"/>
          <p:cNvSpPr/>
          <p:nvPr/>
        </p:nvSpPr>
        <p:spPr>
          <a:xfrm>
            <a:off x="3710520" y="3452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73"/>
          <p:cNvSpPr/>
          <p:nvPr/>
        </p:nvSpPr>
        <p:spPr>
          <a:xfrm>
            <a:off x="500580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174"/>
          <p:cNvSpPr/>
          <p:nvPr/>
        </p:nvSpPr>
        <p:spPr>
          <a:xfrm>
            <a:off x="515052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175"/>
          <p:cNvSpPr/>
          <p:nvPr/>
        </p:nvSpPr>
        <p:spPr>
          <a:xfrm>
            <a:off x="371052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Oval 176"/>
          <p:cNvSpPr/>
          <p:nvPr/>
        </p:nvSpPr>
        <p:spPr>
          <a:xfrm>
            <a:off x="6732720" y="3429000"/>
            <a:ext cx="1429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177"/>
          <p:cNvSpPr/>
          <p:nvPr/>
        </p:nvSpPr>
        <p:spPr>
          <a:xfrm>
            <a:off x="6804000" y="1844640"/>
            <a:ext cx="1429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Oval 178"/>
          <p:cNvSpPr/>
          <p:nvPr/>
        </p:nvSpPr>
        <p:spPr>
          <a:xfrm>
            <a:off x="7667640" y="2349360"/>
            <a:ext cx="1429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Oval 181"/>
          <p:cNvSpPr/>
          <p:nvPr/>
        </p:nvSpPr>
        <p:spPr>
          <a:xfrm>
            <a:off x="7667640" y="3429000"/>
            <a:ext cx="1429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182"/>
          <p:cNvSpPr/>
          <p:nvPr/>
        </p:nvSpPr>
        <p:spPr>
          <a:xfrm>
            <a:off x="6804000" y="1916280"/>
            <a:ext cx="0" cy="1584000"/>
          </a:xfrm>
          <a:prstGeom prst="line">
            <a:avLst/>
          </a:prstGeom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183"/>
          <p:cNvSpPr/>
          <p:nvPr/>
        </p:nvSpPr>
        <p:spPr>
          <a:xfrm>
            <a:off x="6804000" y="1916280"/>
            <a:ext cx="936720" cy="504720"/>
          </a:xfrm>
          <a:prstGeom prst="line">
            <a:avLst/>
          </a:prstGeom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Line 185"/>
          <p:cNvSpPr/>
          <p:nvPr/>
        </p:nvSpPr>
        <p:spPr>
          <a:xfrm>
            <a:off x="7740720" y="2492280"/>
            <a:ext cx="0" cy="1008000"/>
          </a:xfrm>
          <a:prstGeom prst="line">
            <a:avLst/>
          </a:prstGeom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Line 186"/>
          <p:cNvSpPr/>
          <p:nvPr/>
        </p:nvSpPr>
        <p:spPr>
          <a:xfrm>
            <a:off x="6804000" y="3500280"/>
            <a:ext cx="9367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书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P135--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复习题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3" name="Line 4"/>
          <p:cNvSpPr/>
          <p:nvPr/>
        </p:nvSpPr>
        <p:spPr>
          <a:xfrm flipH="1">
            <a:off x="826920" y="2637000"/>
            <a:ext cx="259272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5"/>
          <p:cNvSpPr/>
          <p:nvPr/>
        </p:nvSpPr>
        <p:spPr>
          <a:xfrm>
            <a:off x="826920" y="4076640"/>
            <a:ext cx="273708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6"/>
          <p:cNvSpPr/>
          <p:nvPr/>
        </p:nvSpPr>
        <p:spPr>
          <a:xfrm>
            <a:off x="342108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32400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8"/>
          <p:cNvSpPr/>
          <p:nvPr/>
        </p:nvSpPr>
        <p:spPr>
          <a:xfrm>
            <a:off x="349380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4741920" y="2781360"/>
            <a:ext cx="3773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图，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OB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内有一点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在边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A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B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上分别作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使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MN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周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最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10"/>
          <p:cNvSpPr/>
          <p:nvPr/>
        </p:nvSpPr>
        <p:spPr>
          <a:xfrm>
            <a:off x="29178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1"/>
          <p:cNvSpPr/>
          <p:nvPr/>
        </p:nvSpPr>
        <p:spPr>
          <a:xfrm>
            <a:off x="2700360" y="3573360"/>
            <a:ext cx="1429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456840" y="1600200"/>
            <a:ext cx="17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Goudy Old Style"/>
              </a:rPr>
              <a:t>建</a:t>
            </a:r>
            <a:endParaRPr b="0" lang="en-US" sz="4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Goudy Old Style"/>
              </a:rPr>
              <a:t>筑</a:t>
            </a:r>
            <a:endParaRPr b="0" lang="en-US" sz="48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618" name="Picture 4" descr="21479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557360"/>
            <a:ext cx="561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21479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692280"/>
            <a:ext cx="7272360" cy="54734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539640" y="1989000"/>
            <a:ext cx="71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addida"/>
          <p:cNvPicPr/>
          <p:nvPr/>
        </p:nvPicPr>
        <p:blipFill>
          <a:blip r:embed="rId2"/>
          <a:stretch/>
        </p:blipFill>
        <p:spPr>
          <a:xfrm>
            <a:off x="2124000" y="1484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5"/>
          <p:cNvSpPr/>
          <p:nvPr/>
        </p:nvSpPr>
        <p:spPr>
          <a:xfrm>
            <a:off x="611280" y="2492280"/>
            <a:ext cx="79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2" descr=""/>
          <p:cNvPicPr/>
          <p:nvPr/>
        </p:nvPicPr>
        <p:blipFill>
          <a:blip r:embed="rId1"/>
          <a:stretch/>
        </p:blipFill>
        <p:spPr>
          <a:xfrm>
            <a:off x="189000" y="542880"/>
            <a:ext cx="8516880" cy="11574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611280" y="2492280"/>
            <a:ext cx="79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艺术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Picture 6" descr="Pt007-(1200X1200)"/>
          <p:cNvPicPr/>
          <p:nvPr/>
        </p:nvPicPr>
        <p:blipFill>
          <a:blip r:embed="rId2"/>
          <a:stretch/>
        </p:blipFill>
        <p:spPr>
          <a:xfrm>
            <a:off x="1835280" y="2133720"/>
            <a:ext cx="2808000" cy="3024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Pt004-(1200X1200)"/>
          <p:cNvPicPr/>
          <p:nvPr/>
        </p:nvPicPr>
        <p:blipFill>
          <a:blip r:embed="rId3"/>
          <a:stretch/>
        </p:blipFill>
        <p:spPr>
          <a:xfrm>
            <a:off x="5292720" y="2133720"/>
            <a:ext cx="2879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Tmp3 复制"/>
          <p:cNvPicPr/>
          <p:nvPr/>
        </p:nvPicPr>
        <p:blipFill>
          <a:blip r:embed="rId2"/>
          <a:stretch/>
        </p:blipFill>
        <p:spPr>
          <a:xfrm>
            <a:off x="1547640" y="1700280"/>
            <a:ext cx="6477120" cy="35812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611280" y="2492280"/>
            <a:ext cx="79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剪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 txBox="1"/>
          <p:nvPr/>
        </p:nvSpPr>
        <p:spPr>
          <a:xfrm>
            <a:off x="1763280" y="126828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Goudy Old Style"/>
              </a:rPr>
              <a:t>田   日    目</a:t>
            </a:r>
            <a:endParaRPr b="0" lang="en-US" sz="8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Goudy Old Style"/>
              </a:rPr>
              <a:t>口   又    中</a:t>
            </a:r>
            <a:endParaRPr b="0" lang="en-US" sz="8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Goudy Old Style"/>
              </a:rPr>
              <a:t>晶   森    林</a:t>
            </a:r>
            <a:endParaRPr b="0" lang="en-US" sz="88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611280" y="2492280"/>
            <a:ext cx="79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汉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2050560" y="162864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Goudy Old Style"/>
              </a:rPr>
              <a:t>A   B   D  E</a:t>
            </a:r>
            <a:endParaRPr b="0" lang="en-US" sz="8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Goudy Old Style"/>
              </a:rPr>
              <a:t>H    I   K   L</a:t>
            </a:r>
            <a:endParaRPr b="0" lang="en-US" sz="8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Goudy Old Style"/>
              </a:rPr>
              <a:t>M  N   O   T</a:t>
            </a:r>
            <a:endParaRPr b="0" lang="en-US" sz="88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611280" y="2492280"/>
            <a:ext cx="79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字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7:08:18Z</dcterms:created>
  <dc:creator/>
  <dc:description/>
  <dc:language>en-US</dc:language>
  <cp:lastModifiedBy>微软用户</cp:lastModifiedBy>
  <dcterms:modified xsi:type="dcterms:W3CDTF">2010-12-14T05:52:16Z</dcterms:modified>
  <cp:revision>1</cp:revision>
  <dc:subject/>
  <dc:title/>
</cp:coreProperties>
</file>